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0CFE-51BF-4642-B358-4107E4C9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7A7F-7AAC-4096-ABB9-02D753BA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C151-53A6-492A-800F-E62BAC14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7C07-2E67-4B5B-A688-F5DEFB45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E1AE-C346-47E2-A55E-927DF873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5562-2E90-4DEF-94CD-3A8F27F5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1B23-3291-47EB-9F4A-A291344A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D19C-25C0-4EA4-AF1F-C7F9C09D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4D3F-F69F-4251-8D9B-F487ECDF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9650-1BA7-4C83-A825-7CB0EF9A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35B6-5055-49C8-A3B3-963C8819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7B18-91A6-4307-9C15-1338538F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5DE3-6AB9-4253-9574-C3E9B92E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5C92-72A2-4568-AD20-F5D37901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BF9A-D2D9-476C-A080-8B85BE9C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E2BF-402E-4C43-8E43-D8812E4E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1433-3A7A-470C-93F1-44920A9CF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9B2B-AF13-4638-8A86-F5220E17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022D-1FB2-40FA-BB7F-B6CADD97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3A37-E108-4425-AB45-72584CCB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6DE9-354F-47EF-A62B-B63FBDAB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6525-E52D-480F-BC33-002BC4EA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1A8C-728F-43AA-B63C-7D2A9A94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DBB3-070D-4267-9E46-8F11CC84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9B69-A8FE-4778-BC38-407D4FD97A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EED8-45A9-4E84-8EC7-CF04C4DF4C0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z.about.com/d/gospain/1/0/L/H/-/-/codpeppers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6666"/>
                </a:solidFill>
                <a:uFillTx/>
                <a:latin typeface="Arial"/>
              </a:rPr>
              <a:t>Spain</a:t>
            </a:r>
            <a:br>
              <a:rPr sz="5400"/>
            </a:br>
            <a:r>
              <a:rPr b="0" lang="en-US" sz="1800" spc="-1" strike="noStrike" u="sng">
                <a:solidFill>
                  <a:srgbClr val="006666"/>
                </a:solidFill>
                <a:uFillTx/>
                <a:latin typeface="Arial"/>
              </a:rPr>
              <a:t>created By: Jada A. and Caroline W.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38280" y="3591000"/>
            <a:ext cx="426744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Rivers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168520" y="1827360"/>
            <a:ext cx="334332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29680" indent="-2296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ain Has many important rivers. This river is called the Toja  River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29680" indent="-2296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29680" indent="-2296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toja river is the longest river in Spain. It is 1,007 Km from 1,007 kms  from Albaraccin to Lisboa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29680" indent="-2296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29680" indent="-2296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29680" indent="-2296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48320" y="990720"/>
            <a:ext cx="4038480" cy="476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403848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Kristen ITC"/>
              </a:rPr>
              <a:t>     </a:t>
            </a:r>
            <a:r>
              <a:rPr b="0" lang="en-US" sz="6600" spc="-1" strike="noStrike">
                <a:solidFill>
                  <a:srgbClr val="006666"/>
                </a:solidFill>
                <a:latin typeface="Kristen ITC"/>
              </a:rPr>
              <a:t>Population</a:t>
            </a:r>
            <a:endParaRPr b="0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cccc"/>
                </a:solidFill>
                <a:latin typeface="Verdana"/>
              </a:rPr>
              <a:t>There is a lot of people in Spain. Today there is more than 40 billion peop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cccc"/>
                </a:solidFill>
                <a:latin typeface="Verdana"/>
              </a:rPr>
              <a:t>More tha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cccc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33cccc"/>
                </a:solidFill>
                <a:latin typeface="Verdana"/>
              </a:rPr>
              <a:t>20 million touri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cccc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33cccc"/>
                </a:solidFill>
                <a:latin typeface="Verdana"/>
              </a:rPr>
              <a:t>visit Spain each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cccc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33cccc"/>
                </a:solidFill>
                <a:latin typeface="Verdana"/>
              </a:rPr>
              <a:t>yea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800600" y="2971800"/>
            <a:ext cx="36957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Kristen ITC"/>
              </a:rPr>
              <a:t>         </a:t>
            </a:r>
            <a:r>
              <a:rPr b="0" lang="en-US" sz="5400" spc="-1" strike="noStrike">
                <a:solidFill>
                  <a:srgbClr val="006666"/>
                </a:solidFill>
                <a:latin typeface="Kristen ITC"/>
              </a:rPr>
              <a:t>Traditions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ain has a very unique culture and flag.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tead of calling there holiday Christmas the call it Hogueras or  bonfire which means Christm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4191120"/>
            <a:ext cx="2857320" cy="2381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410080" y="4495680"/>
            <a:ext cx="23529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Kristen ITC"/>
              </a:rPr>
              <a:t> </a:t>
            </a:r>
            <a:r>
              <a:rPr b="0" lang="en-US" sz="5400" spc="-1" strike="noStrike">
                <a:solidFill>
                  <a:srgbClr val="006666"/>
                </a:solidFill>
                <a:latin typeface="Kristen ITC"/>
              </a:rPr>
              <a:t>Physical Geography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iede mountai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s the highe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untain i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ai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2,198 f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Image - Google Maps"/>
          <p:cNvPicPr/>
          <p:nvPr/>
        </p:nvPicPr>
        <p:blipFill>
          <a:blip r:embed="rId1"/>
          <a:stretch/>
        </p:blipFill>
        <p:spPr>
          <a:xfrm>
            <a:off x="1143000" y="4495680"/>
            <a:ext cx="2819520" cy="2130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5434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s is deep fried peppers stuffed with cod. People in Spain eat this meal on Hoguer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676520" y="304920"/>
            <a:ext cx="71625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ood from spain!!!!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pimientos rellenos de bacala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3276720"/>
            <a:ext cx="3886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3581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red and golden-yellow colors of Spain's flag were first used in the late 1700s by the King of Spain. They're also the original colors found within the arms of both th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astile and Arag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regions of the countr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9:24:34Z</dcterms:created>
  <dc:creator>jadaalexander</dc:creator>
  <dc:description/>
  <dc:language>en-US</dc:language>
  <cp:lastModifiedBy>jadaalexander</cp:lastModifiedBy>
  <dcterms:modified xsi:type="dcterms:W3CDTF">2009-02-13T19:13:45Z</dcterms:modified>
  <cp:revision>4</cp:revision>
  <dc:subject/>
  <dc:title>Spain created By: Jada and Caroline</dc:title>
</cp:coreProperties>
</file>